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C69-16B5-4E99-8538-F8B64957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AD1-8E7F-4404-A90A-10F2BB35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71E-C3C6-47B4-98AD-C9E153E8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063-49DA-481A-9EBD-50E43C52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D0E-B69B-4B9B-8B6B-7F722A9E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BDD-8ACC-4002-AA3E-FD8D37B0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F39-F7EB-4D94-BF37-E4874CF5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57C-BFDD-4A66-80B5-C705DCD5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0ED-0BED-4643-BBD3-A1453F71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77C-EE09-4727-A4C3-F7BD901E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7B0-1BC6-4508-83D8-C1487D6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9A9-B407-40D8-A399-C1039E2F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3B4A-99A2-4F96-86B4-46AEF5FF9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 5, Les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80880"/>
            <a:ext cx="7925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e children of David in this lesson are _________, ___________ and ____________.  (Which two had the same mother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as Jonadab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What prompted him to ask Amnon what brought on his sick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not really love for his half-sister, but _________ that caused Amnon to do the evil thing that he d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Jonadab suggest as a means for Amnon to accomplish his evil desi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7621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3962160" y="1142640"/>
            <a:ext cx="11430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105520" y="114264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2096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’s nephew; Amnon’s cou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32767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non had a haggard look morning after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038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58672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end to be sick; ask your father to send Tamar to prepare a meal for you while you are in 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3808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as Amnon’s feeling toward Tamar after he had violated her virgi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David do about the situation once he learned of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the reason David was indecisive about proper action toward Amnon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alom invited his ___________, his ___________and the ________ officials to a feast when his sheep-shearing was finished.   By this time ___ years had pa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4394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4800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4800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864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143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red, wanted her out of his sight - even though she did not want to leave at tha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286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809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mmitted adultery himself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380880"/>
            <a:ext cx="830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Absalom take vengeance on Amn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at place and to whom did Absalom fl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 tried to think of ways to persuade David to 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art did the woman of Tekoa p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id David think had put her up to this 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9144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sked his servants to kill him after he got drunk at the f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1981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hur;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his grandfa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s mother’s fath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was the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505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ab, David’s nephew, and his “captain of the hosts” or commander of the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2514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9718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his son Absalom home knowing he was next in line to be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1911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went before the king with a similar situation/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52578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uspected Jo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zoom dir="in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38088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David allowed Absalom to return, he still would not receive him in ________  _________ for a period of _______ more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 How many years were involved from the time of Amnon’s crime until David was willing to see Absalom ag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762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143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3352680"/>
            <a:ext cx="6934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from the act to Amnon’s deat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years Absalom was in Geshu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back in Jerusalem, but David would not see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zoom dir="in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17:49:49Z</dcterms:created>
  <dc:creator>Frank D Vines</dc:creator>
  <dc:description/>
  <dc:language>en-US</dc:language>
  <cp:lastModifiedBy>Frank D Vines</cp:lastModifiedBy>
  <dcterms:modified xsi:type="dcterms:W3CDTF">2005-07-06T04:13:24Z</dcterms:modified>
  <cp:revision>15</cp:revision>
  <dc:subject/>
  <dc:title>Slide 1</dc:title>
</cp:coreProperties>
</file>